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278-10C6-421C-9853-20567FCF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CC7-2C1D-4F08-BDC2-3734AAA1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E6E-F737-4549-A32A-E487B7CD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FEC-7F1F-4ADB-90C3-B1817249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19A-4021-4EC9-99B4-C04223C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997-0EFC-4415-917C-93984D2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BD8-15C7-4AB1-A5A9-99551ED5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576-617F-4DB1-99AA-330195A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84E-A5E8-424E-BDDC-EC92E80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462-B65F-4910-807D-737F18A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457-AAC1-49AE-8BF2-03174C9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CE4-E044-4FA2-B864-BF29D71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3024-C7C6-484E-AD07-426A1FEE1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investkin@rambler.ru" TargetMode="External"/><Relationship Id="rId2" Type="http://schemas.openxmlformats.org/officeDocument/2006/relationships/hyperlink" Target="mailto:005@adminet.ivanovo.ru" TargetMode="External"/><Relationship Id="rId3" Type="http://schemas.openxmlformats.org/officeDocument/2006/relationships/hyperlink" Target="mailto:005@adminet.ivanovo.ru" TargetMode="External"/><Relationship Id="rId4" Type="http://schemas.openxmlformats.org/officeDocument/2006/relationships/hyperlink" Target="mailto:005-13-06@adminet.ivanovo.ru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ineshma.ru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Й КЛИМ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ском округе Кинеш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891800" y="404640"/>
            <a:ext cx="62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СТРАЦИЯ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349360" y="91296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по экономике и предприниматель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Мои документы\ИНВЕСТИЦИИ_ГО КИНЕШМА\ЗЕЛЕНЫЕ ПЛОЩАДКИ\Презентация\Клипарт\480px-Gerb_kineshma_ivanovskaya_oblast.jpg"/>
          <p:cNvPicPr/>
          <p:nvPr/>
        </p:nvPicPr>
        <p:blipFill>
          <a:blip r:embed="rId1"/>
          <a:stretch/>
        </p:blipFill>
        <p:spPr>
          <a:xfrm>
            <a:off x="250920" y="139680"/>
            <a:ext cx="15364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324000" y="963720"/>
            <a:ext cx="8496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униципальной поддержки инвестиционн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324000" y="1773360"/>
            <a:ext cx="84643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земельных участков для строительства по льготным арендным ставкам, вплоть до нулев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6"/>
          <p:cNvSpPr/>
          <p:nvPr/>
        </p:nvSpPr>
        <p:spPr>
          <a:xfrm>
            <a:off x="324000" y="2349360"/>
            <a:ext cx="848196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земельных участков в аренду под объектами недвижимости, находящимися в собственности Инвестора, по льготным арендным ставк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2"/>
          <p:cNvSpPr/>
          <p:nvPr/>
        </p:nvSpPr>
        <p:spPr>
          <a:xfrm>
            <a:off x="324000" y="5157720"/>
            <a:ext cx="849600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ативный правовые а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инешемской городской Думы от 19 апреля 2005 г. N 64/368 «Об утверждении положения о поддержке инвестиционной деятельности, осуществляемой в форме капитальных вложений на территории города Кинешмы иванов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7"/>
          <p:cNvSpPr/>
          <p:nvPr/>
        </p:nvSpPr>
        <p:spPr>
          <a:xfrm>
            <a:off x="324000" y="2924280"/>
            <a:ext cx="8464320" cy="97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атайство перед органами государственной власти Ивановской области о предоставлении государственной поддержки инвестиционных проектов в соответствии с инвестиционным законодательством Ива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324000" y="3898800"/>
            <a:ext cx="8481960" cy="111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действие в оформлении в кратчайшие сроки всех необходимых для Инвестора разрешений, связанных со строительством и производством, в регистрации прав на объекты недвижимости по мере поступления соответствующих заявок и необходимых документов от Инвестора в соответствии с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324000" y="963720"/>
            <a:ext cx="8496000" cy="80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рохождения инвестпроекта через Совет по размещению производительных сил и инвестиций на территории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2"/>
          <p:cNvSpPr/>
          <p:nvPr/>
        </p:nvSpPr>
        <p:spPr>
          <a:xfrm>
            <a:off x="324000" y="4797360"/>
            <a:ext cx="8496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инешемской городской Думы от 30 мая 2007 г. N 32/277 «О порядке рассмотрения инвестиционных проектов реализуемых на территории городского округа Кинеш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324000" y="2060640"/>
            <a:ext cx="2303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в адрес Главы админист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трелка вправо 9"/>
          <p:cNvSpPr/>
          <p:nvPr/>
        </p:nvSpPr>
        <p:spPr>
          <a:xfrm>
            <a:off x="2627280" y="2060640"/>
            <a:ext cx="468360" cy="79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11"/>
          <p:cNvSpPr/>
          <p:nvPr/>
        </p:nvSpPr>
        <p:spPr>
          <a:xfrm>
            <a:off x="3103560" y="2041560"/>
            <a:ext cx="2908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аботка исходных материалов совместно с инвесто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12"/>
          <p:cNvSpPr/>
          <p:nvPr/>
        </p:nvSpPr>
        <p:spPr>
          <a:xfrm>
            <a:off x="6035760" y="2060640"/>
            <a:ext cx="468360" cy="79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13"/>
          <p:cNvSpPr/>
          <p:nvPr/>
        </p:nvSpPr>
        <p:spPr>
          <a:xfrm>
            <a:off x="6504120" y="2027160"/>
            <a:ext cx="23158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а проекта рабочей групп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право 14"/>
          <p:cNvSpPr/>
          <p:nvPr/>
        </p:nvSpPr>
        <p:spPr>
          <a:xfrm rot="5400000">
            <a:off x="7427520" y="2690640"/>
            <a:ext cx="468360" cy="792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15"/>
          <p:cNvSpPr/>
          <p:nvPr/>
        </p:nvSpPr>
        <p:spPr>
          <a:xfrm>
            <a:off x="6539040" y="3321000"/>
            <a:ext cx="23158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на Сов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право 16"/>
          <p:cNvSpPr/>
          <p:nvPr/>
        </p:nvSpPr>
        <p:spPr>
          <a:xfrm rot="10800000">
            <a:off x="6084360" y="3320640"/>
            <a:ext cx="466920" cy="792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17"/>
          <p:cNvSpPr/>
          <p:nvPr/>
        </p:nvSpPr>
        <p:spPr>
          <a:xfrm>
            <a:off x="3767040" y="2997360"/>
            <a:ext cx="231768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о поддержке инвест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Думой городского округа Кинеш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трелка вправо 18"/>
          <p:cNvSpPr/>
          <p:nvPr/>
        </p:nvSpPr>
        <p:spPr>
          <a:xfrm rot="10800000">
            <a:off x="3298320" y="3429000"/>
            <a:ext cx="468360" cy="79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19"/>
          <p:cNvSpPr/>
          <p:nvPr/>
        </p:nvSpPr>
        <p:spPr>
          <a:xfrm>
            <a:off x="324000" y="3059280"/>
            <a:ext cx="2939760" cy="15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инвестиционного соглашения,  с учетом форм муниципальной поддер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4"/>
          <p:cNvSpPr/>
          <p:nvPr/>
        </p:nvSpPr>
        <p:spPr>
          <a:xfrm>
            <a:off x="324000" y="907920"/>
            <a:ext cx="8496000" cy="6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-ЧАСТНОЕ ПАРТНЕР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2"/>
          <p:cNvSpPr/>
          <p:nvPr/>
        </p:nvSpPr>
        <p:spPr>
          <a:xfrm>
            <a:off x="324000" y="4005360"/>
            <a:ext cx="849600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 21 июля 2005 года № 115-ФЗ «О концессионных соглаше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городской Думы городского округа Кинешма от 24 октября 2012 г. № 41/438 «Об утверждении положения о муниципально-частном партнерстве в городском округе Кинеш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дминистрации городского округа Кинешма от 30 августа 2012г. № 2020п  «О порядке проведения торгов в форме конкурсов по отбору инвесторов на право реализации инвестиционных проектов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лавы администрации городского округа Кинешма от 18 сентября 2008 г. № 2830п «Об утверждении положения  о порядке заключения инвестиционных контрактов на строительство, реставрацию, реконструкцию, капитальный ремонт зданий (помещений, сооружений) и достройку объектов, находящихся в муниципальной собственности городского округа Кинешм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324000" y="1700280"/>
            <a:ext cx="8496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МЧ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– (отрасль государственно-частного партнерства) взаимовыгодное сотрудничество муниципального образования и частного партнера в реализации социально значимых, инфраструктурных, инновационных, инвестиционных проектов, которое осуществляется путем заключения и исполнения соглашений, в том числе концессионны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20"/>
          <p:cNvSpPr/>
          <p:nvPr/>
        </p:nvSpPr>
        <p:spPr>
          <a:xfrm>
            <a:off x="324000" y="2708280"/>
            <a:ext cx="849600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принцип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бюджетных средств и частного капт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рисков и ответственности между партнерам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лгосрочный характер взаимоотноше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сть на решение вопросов местного зна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курентный отбор частных партнер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А УРОВНЕ ИВАН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2"/>
          <p:cNvSpPr/>
          <p:nvPr/>
        </p:nvSpPr>
        <p:spPr>
          <a:xfrm>
            <a:off x="531720" y="4508640"/>
            <a:ext cx="82486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ативный правовые а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Ивановской области от 17.05.2007 N 62-ОЗ "О государственной поддержке инвестиционной деятельности, осуществляемой в форме капитальных вложений, на территории Ивановской области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20"/>
          <p:cNvSpPr/>
          <p:nvPr/>
        </p:nvSpPr>
        <p:spPr>
          <a:xfrm>
            <a:off x="555480" y="765000"/>
            <a:ext cx="828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униципальной поддержки инвестиционн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21"/>
          <p:cNvSpPr/>
          <p:nvPr/>
        </p:nvSpPr>
        <p:spPr>
          <a:xfrm>
            <a:off x="531720" y="2060640"/>
            <a:ext cx="8280360" cy="1865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щение (субсидирование) за счет средств областного бюджета части затрат на уплату процентов по кредитам, привлекаемым на инвестиционные цели в российских кредитных организа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налоговых льго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государственных гарантий Ивановской обла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организационного содейств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А УРОВНЕ ИВАН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2"/>
          <p:cNvSpPr/>
          <p:nvPr/>
        </p:nvSpPr>
        <p:spPr>
          <a:xfrm>
            <a:off x="531720" y="5084640"/>
            <a:ext cx="824868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ативный правовые а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Ивановской области от 24.02.2011 N 40-п «О Порядке рассмотрения Правительством Ивановской области инвестиционных проектов, реализуемых на территории Ивановской област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20"/>
          <p:cNvSpPr/>
          <p:nvPr/>
        </p:nvSpPr>
        <p:spPr>
          <a:xfrm>
            <a:off x="555480" y="765000"/>
            <a:ext cx="8280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РОХОЖДЕНИЯ ПРОЕКТ ЧЕРЕЗ МЕЖВЕДОМСТВЕННЫЙ СОВЕТ ПО РАЗМЕЩЕНИЮ ПРОИЗВОДИТЕЛЬНЫХ СИЛ И ИНВЕСТИЦ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D:\Мои документы\ИНВЕСТИЦИИ_ГО КИНЕШМА\КОМИССИИ_РАБ_ГРУППЫ\Совет директоров\К заседанию\Презентация\Схема инвестсовет иваново.png"/>
          <p:cNvPicPr/>
          <p:nvPr/>
        </p:nvPicPr>
        <p:blipFill>
          <a:blip r:embed="rId1"/>
          <a:stretch/>
        </p:blipFill>
        <p:spPr>
          <a:xfrm>
            <a:off x="1560600" y="1413000"/>
            <a:ext cx="62514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5"/>
          <p:cNvSpPr/>
          <p:nvPr/>
        </p:nvSpPr>
        <p:spPr>
          <a:xfrm>
            <a:off x="179280" y="189000"/>
            <a:ext cx="8785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6"/>
          <p:cNvSpPr/>
          <p:nvPr/>
        </p:nvSpPr>
        <p:spPr>
          <a:xfrm>
            <a:off x="179280" y="1125360"/>
            <a:ext cx="4248360" cy="504036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040360"/>
              <a:gd name="textAreaBottom" fmla="*/ 4833000 h 5040360"/>
            </a:gdLst>
            <a:ahLst/>
            <a:rect l="textAreaLeft" t="textAreaTop" r="textAreaRight" b="textAreaBottom"/>
            <a:pathLst>
              <a:path w="21600" h="25626">
                <a:moveTo>
                  <a:pt x="3600" y="0"/>
                </a:moveTo>
                <a:arcTo wR="3600" hR="3600" stAng="16200000" swAng="-5400000"/>
                <a:lnTo>
                  <a:pt x="0" y="22026"/>
                </a:lnTo>
                <a:arcTo wR="3600" hR="3600" stAng="10800000" swAng="-5400000"/>
                <a:lnTo>
                  <a:pt x="18000" y="25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Администрация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(www. admkineshma.ru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  <a:ea typeface="Arial"/>
              </a:rPr>
              <a:t>Бобышева Наталия Юрьевна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– Заместитель главы администрации городского округа Кинешм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Black"/>
                <a:ea typeface="Arial"/>
              </a:rPr>
              <a:t>Конт. тел.:8(49331) 5-51-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504d"/>
                </a:solidFill>
                <a:latin typeface="Arial Black"/>
                <a:ea typeface="Arial"/>
              </a:rPr>
              <a:t>Смирнов Сергей Владимирович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Ведущий специалист отдела по экономике и предпринимательству администрации городского округа Кинешма по инвестиц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Black"/>
                <a:ea typeface="Arial"/>
              </a:rPr>
              <a:t>Конт. тел.: 8(49331) 5-79-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Black"/>
                <a:ea typeface="Arial"/>
              </a:rPr>
              <a:t>E-mai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investkin@rambler.ru</a:t>
            </a:r>
            <a:r>
              <a:rPr b="0" lang="en-US" sz="1600" spc="-1" strike="noStrike">
                <a:solidFill>
                  <a:srgbClr val="4f81bd"/>
                </a:solidFill>
                <a:latin typeface="Arial Black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9"/>
          <p:cNvSpPr/>
          <p:nvPr/>
        </p:nvSpPr>
        <p:spPr>
          <a:xfrm>
            <a:off x="4643280" y="1123920"/>
            <a:ext cx="4321440" cy="5040360"/>
          </a:xfrm>
          <a:custGeom>
            <a:avLst/>
            <a:gdLst>
              <a:gd name="textAreaLeft" fmla="*/ 210960 w 4321440"/>
              <a:gd name="textAreaRight" fmla="*/ 4110480 w 4321440"/>
              <a:gd name="textAreaTop" fmla="*/ 210960 h 5040360"/>
              <a:gd name="textAreaBottom" fmla="*/ 4829400 h 5040360"/>
            </a:gdLst>
            <a:ahLst/>
            <a:rect l="textAreaLeft" t="textAreaTop" r="textAreaRight" b="textAreaBottom"/>
            <a:pathLst>
              <a:path w="21600" h="25193">
                <a:moveTo>
                  <a:pt x="3600" y="0"/>
                </a:moveTo>
                <a:arcTo wR="3600" hR="3600" stAng="16200000" swAng="-5400000"/>
                <a:lnTo>
                  <a:pt x="0" y="21593"/>
                </a:lnTo>
                <a:arcTo wR="3600" hR="3600" stAng="10800000" swAng="-5400000"/>
                <a:lnTo>
                  <a:pt x="18000" y="251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партамент экономического развития и торговли Ива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derit.ivanovoobl.ru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504d"/>
                </a:solidFill>
                <a:latin typeface="Arial Black"/>
              </a:rPr>
              <a:t>Давлетова Светлана Валентинов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Член Правительства Ивановской области – Начальник Департамента ЭРи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Конт. тел.: 8(4932) 32-73-4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70c0"/>
                </a:solidFill>
                <a:latin typeface="Arial Black"/>
              </a:rPr>
              <a:t>E-mail:</a:t>
            </a: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 Black"/>
                <a:hlinkClick r:id="rId2"/>
              </a:rPr>
              <a:t>005@adminet.ivanovo.r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504d"/>
                </a:solidFill>
                <a:latin typeface="Arial Black"/>
              </a:rPr>
              <a:t>Казаков Михаил Геннадьевич</a:t>
            </a:r>
            <a:r>
              <a:rPr b="0" lang="ru-RU" sz="1300" spc="-1" strike="noStrike">
                <a:solidFill>
                  <a:srgbClr val="4f81bd"/>
                </a:solidFill>
                <a:latin typeface="Arial Black"/>
              </a:rPr>
              <a:t> –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Заместитель начальника Департамента ЭРиТ по промышленной и инвестиционной полити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Конт. тел</a:t>
            </a:r>
            <a:r>
              <a:rPr b="0" lang="ru-RU" sz="1300" spc="-1" strike="noStrike">
                <a:solidFill>
                  <a:srgbClr val="4f81bd"/>
                </a:solidFill>
                <a:latin typeface="Arial Black"/>
              </a:rPr>
              <a:t>. 8(4932) 37-52-8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E-mail: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 Black"/>
                <a:hlinkClick r:id="rId3"/>
              </a:rPr>
              <a:t>005@adminet.ivanovo.r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504d"/>
                </a:solidFill>
                <a:latin typeface="Arial Black"/>
              </a:rPr>
              <a:t>Ештокина Светлана Валерьев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Консультант Департамента ЭРиТ по вопросам получения господдержк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Тел./факс</a:t>
            </a:r>
            <a:r>
              <a:rPr b="0" lang="ru-RU" sz="1300" spc="-1" strike="noStrike">
                <a:solidFill>
                  <a:srgbClr val="4f81bd"/>
                </a:solidFill>
                <a:latin typeface="Arial Black"/>
              </a:rPr>
              <a:t> 8(4932) 37-72-4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Е-</a:t>
            </a:r>
            <a:r>
              <a:rPr b="0" lang="en-US" sz="1300" spc="-1" strike="noStrike">
                <a:solidFill>
                  <a:srgbClr val="0070c0"/>
                </a:solidFill>
                <a:latin typeface="Arial Black"/>
              </a:rPr>
              <a:t>mail:</a:t>
            </a: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 Black"/>
                <a:hlinkClick r:id="rId4"/>
              </a:rPr>
              <a:t>005-13-06@adminet.ivanovo.ru</a:t>
            </a: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5"/>
          <p:cNvSpPr/>
          <p:nvPr/>
        </p:nvSpPr>
        <p:spPr>
          <a:xfrm>
            <a:off x="1332000" y="189000"/>
            <a:ext cx="76276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Индустриальный пар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МИП «Кинеш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250920" y="4724280"/>
            <a:ext cx="284328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7 (49331) 756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7 (910) 668512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7"/>
          <p:cNvSpPr/>
          <p:nvPr/>
        </p:nvSpPr>
        <p:spPr>
          <a:xfrm>
            <a:off x="3308400" y="4724280"/>
            <a:ext cx="277632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@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sokolov@samavtocom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8"/>
          <p:cNvSpPr/>
          <p:nvPr/>
        </p:nvSpPr>
        <p:spPr>
          <a:xfrm>
            <a:off x="6227640" y="4724280"/>
            <a:ext cx="273204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kineshma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(в разработке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10"/>
          <p:cNvSpPr/>
          <p:nvPr/>
        </p:nvSpPr>
        <p:spPr>
          <a:xfrm>
            <a:off x="250920" y="2492280"/>
            <a:ext cx="870876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правляющая комп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ОО «Многопрофильный индустриальный парк «Кинеш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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155815, Ивановская область, г. Кинешм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л. 2-я Шуйская, д.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C:\2\ТЕХНОПАРК.png"/>
          <p:cNvPicPr/>
          <p:nvPr/>
        </p:nvPicPr>
        <p:blipFill>
          <a:blip r:embed="rId2"/>
          <a:stretch/>
        </p:blipFill>
        <p:spPr>
          <a:xfrm>
            <a:off x="115920" y="93600"/>
            <a:ext cx="115560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Презентация\титульный 1.png"/>
          <p:cNvPicPr/>
          <p:nvPr/>
        </p:nvPicPr>
        <p:blipFill>
          <a:blip r:embed="rId3"/>
          <a:stretch/>
        </p:blipFill>
        <p:spPr>
          <a:xfrm>
            <a:off x="250920" y="1125360"/>
            <a:ext cx="870876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НВЕСТКЛИМ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287360" y="83664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оциально-экономические показа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Диаграмма 3" descr=""/>
          <p:cNvPicPr/>
          <p:nvPr/>
        </p:nvPicPr>
        <p:blipFill>
          <a:blip r:embed="rId1"/>
          <a:stretch/>
        </p:blipFill>
        <p:spPr>
          <a:xfrm>
            <a:off x="895320" y="1262160"/>
            <a:ext cx="7377120" cy="3138480"/>
          </a:xfrm>
          <a:prstGeom prst="rect">
            <a:avLst/>
          </a:prstGeom>
          <a:ln w="0">
            <a:noFill/>
          </a:ln>
        </p:spPr>
      </p:pic>
      <p:pic>
        <p:nvPicPr>
          <p:cNvPr id="49" name="Диаграмма 4" descr=""/>
          <p:cNvPicPr/>
          <p:nvPr/>
        </p:nvPicPr>
        <p:blipFill>
          <a:blip r:embed="rId2"/>
          <a:stretch/>
        </p:blipFill>
        <p:spPr>
          <a:xfrm>
            <a:off x="1835280" y="4438800"/>
            <a:ext cx="5278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НВЕСТКЛИМ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718000" y="8254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графическая ситу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Диаграмма 5" descr=""/>
          <p:cNvPicPr/>
          <p:nvPr/>
        </p:nvPicPr>
        <p:blipFill>
          <a:blip r:embed="rId1"/>
          <a:stretch/>
        </p:blipFill>
        <p:spPr>
          <a:xfrm>
            <a:off x="969840" y="1285920"/>
            <a:ext cx="6747120" cy="2584440"/>
          </a:xfrm>
          <a:prstGeom prst="rect">
            <a:avLst/>
          </a:prstGeom>
          <a:ln w="0">
            <a:noFill/>
          </a:ln>
        </p:spPr>
      </p:pic>
      <p:pic>
        <p:nvPicPr>
          <p:cNvPr id="53" name="Диаграмма 6" descr=""/>
          <p:cNvPicPr/>
          <p:nvPr/>
        </p:nvPicPr>
        <p:blipFill>
          <a:blip r:embed="rId2"/>
          <a:stretch/>
        </p:blipFill>
        <p:spPr>
          <a:xfrm>
            <a:off x="4138560" y="4005360"/>
            <a:ext cx="4621320" cy="20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95280" y="3860640"/>
          <a:ext cx="3529080" cy="2764080"/>
        </p:xfrm>
        <a:graphic>
          <a:graphicData uri="http://schemas.openxmlformats.org/drawingml/2006/table">
            <a:tbl>
              <a:tblPr/>
              <a:tblGrid>
                <a:gridCol w="1763640"/>
                <a:gridCol w="1765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родской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сто (численность насе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Arial"/>
                          <a:ea typeface="Arial"/>
                        </a:rPr>
                        <a:t>Кинеш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ч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й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х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НВЕСТКЛИМ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506680" y="82548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Диаграмма 8" descr=""/>
          <p:cNvPicPr/>
          <p:nvPr/>
        </p:nvPicPr>
        <p:blipFill>
          <a:blip r:embed="rId1"/>
          <a:stretch/>
        </p:blipFill>
        <p:spPr>
          <a:xfrm>
            <a:off x="249120" y="1285920"/>
            <a:ext cx="4249800" cy="2646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99600" y="3789360"/>
            <a:ext cx="3918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*млн. руб. за счет всех источников финансирования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ключая субъекты малого предприниматель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Диаграмма 9" descr=""/>
          <p:cNvPicPr/>
          <p:nvPr/>
        </p:nvPicPr>
        <p:blipFill>
          <a:blip r:embed="rId2"/>
          <a:stretch/>
        </p:blipFill>
        <p:spPr>
          <a:xfrm>
            <a:off x="4334040" y="1238400"/>
            <a:ext cx="4572000" cy="2717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4737240" y="3789360"/>
            <a:ext cx="396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*млн. руб. инвестиции в основной капитал за сче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х источников финанс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12" descr=""/>
          <p:cNvPicPr/>
          <p:nvPr/>
        </p:nvPicPr>
        <p:blipFill>
          <a:blip r:embed="rId3"/>
          <a:stretch/>
        </p:blipFill>
        <p:spPr>
          <a:xfrm>
            <a:off x="4737240" y="4218120"/>
            <a:ext cx="413208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4"/>
          <p:cNvSpPr/>
          <p:nvPr/>
        </p:nvSpPr>
        <p:spPr>
          <a:xfrm>
            <a:off x="3924360" y="4724280"/>
            <a:ext cx="792000" cy="136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33520" y="4565520"/>
            <a:ext cx="331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мотря на рост объемов инвестиций, сохраняется </a:t>
            </a: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тенденция к снижени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качественных показателей инвестиционной деятель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частности </a:t>
            </a: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инвестиции в рублях на 1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013000" y="6504120"/>
            <a:ext cx="367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Arial"/>
                <a:ea typeface="Arial"/>
              </a:rPr>
              <a:t>* Данные федеральной службы государственной статистик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БЛ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46880" y="692280"/>
            <a:ext cx="73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РЖИВАЮЩИЕ РАЗВИТИЕ ИНВЕСТ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395280" y="1052640"/>
            <a:ext cx="84027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нфраструктурные огранич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резерва мощности очистных сооруж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сокий уровень тарифов на энергоносит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одготовленных земельных участков для строительства промышленных предприятий обеспеченных инженерной инфраструкту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6"/>
          <p:cNvSpPr/>
          <p:nvPr/>
        </p:nvSpPr>
        <p:spPr>
          <a:xfrm>
            <a:off x="378000" y="2205000"/>
            <a:ext cx="84024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мографические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тественная убыль нас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зкий уровень оплаты труда в производственной сфе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ток молодых специалистов и высококвалифицированных кад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зкий престиж рабочих професс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7"/>
          <p:cNvSpPr/>
          <p:nvPr/>
        </p:nvSpPr>
        <p:spPr>
          <a:xfrm>
            <a:off x="372960" y="3429000"/>
            <a:ext cx="8407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ложная макроэкономическая ситу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доступного заемн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фискальная нагру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кращение рынков сбыта продукции промышленного производ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куренция со стороны зарубежных производ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рение парка промышленного оборудования, общая технологическая отсталость российской эконом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10"/>
          <p:cNvSpPr/>
          <p:nvPr/>
        </p:nvSpPr>
        <p:spPr>
          <a:xfrm>
            <a:off x="390600" y="5084640"/>
            <a:ext cx="84024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граниченные возможности местного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доля социальных расхо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налоговых поступлений в местный бюдж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е ухудшение инфраструктурных пробл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софинансирования из местного бюджета части затрат для привлечения финансирования из бюджета Ивановской области и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ПРОБЛЕМ НА ИНВЕСТ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395280" y="836640"/>
            <a:ext cx="856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устойчивость динамики основных показателей финансово-хозяйственной деятельности предприятий, что затрудняет подготовку и реализацию инвестиционных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8"/>
          <p:cNvSpPr/>
          <p:nvPr/>
        </p:nvSpPr>
        <p:spPr>
          <a:xfrm>
            <a:off x="395280" y="1585800"/>
            <a:ext cx="856944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остановка реализации или отказ от реализации инвестпроекта по причине отсутствия необходим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9"/>
          <p:cNvSpPr/>
          <p:nvPr/>
        </p:nvSpPr>
        <p:spPr>
          <a:xfrm>
            <a:off x="395280" y="2205000"/>
            <a:ext cx="856944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мещение инвестиционных ресурсов из производственной сферы в сферу торговли, услуг и бытового обслужи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11"/>
          <p:cNvSpPr/>
          <p:nvPr/>
        </p:nvSpPr>
        <p:spPr>
          <a:xfrm>
            <a:off x="395280" y="2841480"/>
            <a:ext cx="856944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инвестиционных проектов со сроком реализации свыше трех лет, подразумевающих создание крупных предприят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12"/>
          <p:cNvSpPr/>
          <p:nvPr/>
        </p:nvSpPr>
        <p:spPr>
          <a:xfrm>
            <a:off x="395280" y="3460680"/>
            <a:ext cx="432108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укрупнение и ликвидация крупных промышленных предприятий с целью снижения рисков и налоговой оптим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13"/>
          <p:cNvSpPr/>
          <p:nvPr/>
        </p:nvSpPr>
        <p:spPr>
          <a:xfrm>
            <a:off x="409680" y="4079880"/>
            <a:ext cx="430668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нденция к утрате ведущими промышленными предприятиями ведущей роли в социально-экономическом развитии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395280" y="4675320"/>
            <a:ext cx="4321080" cy="69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 инвестиционных ресурсов в другие регионы, которые оказывают предпринимателям больше мер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395280" y="5359320"/>
            <a:ext cx="4321080" cy="59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основных социально-экономических показателей характеризующих качественное состояние инвестицио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395280" y="5950080"/>
            <a:ext cx="43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возможность прогнозирования параметров местного бюджета с учетом форсированного развития экономики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88000" y="3506760"/>
          <a:ext cx="4200480" cy="317340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родской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ст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объем инвестиц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ч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у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Кинеш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йк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х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ИНВЕСТИЦИОННОЙ ПОЛИ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2"/>
          <p:cNvSpPr/>
          <p:nvPr/>
        </p:nvSpPr>
        <p:spPr>
          <a:xfrm>
            <a:off x="299880" y="1052640"/>
            <a:ext cx="85201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инфраструктурных проблем города посредством реализации инструментов государственно-частного партнерства с привлечением частных инвестиций, средств федерального и областного бюджета, на принципах разделения рисков и ответственности партне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299880" y="2060640"/>
            <a:ext cx="84981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и развитие эффективно действующей системы муниципально-частного партнерства при реализации социально значимых инвестиционных проектов, создании новых произво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>
            <a:off x="299880" y="2852640"/>
            <a:ext cx="8520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частия инвестиционных проектов в мероприятиях долгосрочных федеральных и областных целевых програм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19"/>
          <p:cNvSpPr/>
          <p:nvPr/>
        </p:nvSpPr>
        <p:spPr>
          <a:xfrm>
            <a:off x="299880" y="3462480"/>
            <a:ext cx="85201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методов муниципальной поддержки инвесторов реализующих социально значимые инвестиционные про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20"/>
          <p:cNvSpPr/>
          <p:nvPr/>
        </p:nvSpPr>
        <p:spPr>
          <a:xfrm>
            <a:off x="299880" y="4038480"/>
            <a:ext cx="8536320" cy="6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е в развитии малого предпринимательства и обеспечении самозанятости нас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21"/>
          <p:cNvSpPr/>
          <p:nvPr/>
        </p:nvSpPr>
        <p:spPr>
          <a:xfrm>
            <a:off x="299880" y="4653000"/>
            <a:ext cx="85363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ногопрофильного индустриального парка «Кинешма» как института привлечения прямых инвести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22"/>
          <p:cNvSpPr/>
          <p:nvPr/>
        </p:nvSpPr>
        <p:spPr>
          <a:xfrm>
            <a:off x="299880" y="5259240"/>
            <a:ext cx="8536320" cy="37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правовой и организационной поддержки инвестор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23"/>
          <p:cNvSpPr/>
          <p:nvPr/>
        </p:nvSpPr>
        <p:spPr>
          <a:xfrm>
            <a:off x="299880" y="5638680"/>
            <a:ext cx="8520120" cy="37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благоприятной информационной среды для привлечения инвести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24"/>
          <p:cNvSpPr/>
          <p:nvPr/>
        </p:nvSpPr>
        <p:spPr>
          <a:xfrm>
            <a:off x="299880" y="6014880"/>
            <a:ext cx="853632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влечение иностранных инвесторов и подразделений крупных федеральных комп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95280" y="963720"/>
            <a:ext cx="84009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о размещению производительных сил и инвестиций на территории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13"/>
          <p:cNvSpPr/>
          <p:nvPr/>
        </p:nvSpPr>
        <p:spPr>
          <a:xfrm>
            <a:off x="395280" y="1844640"/>
            <a:ext cx="842472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вет по размещению производительных сил и инвестиций на территор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го округа Кинеш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коллегиальным совещательны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ом, устанавливающим единые принципы подбора инвесторов и условий передач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емельных участков и объектов недвижим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14"/>
          <p:cNvSpPr/>
          <p:nvPr/>
        </p:nvSpPr>
        <p:spPr>
          <a:xfrm>
            <a:off x="395280" y="3068640"/>
            <a:ext cx="840096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чи и функции Совета по размещению производительных сил и инвестиций на территории городского округа Кинешм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матривает вопросы размещения производительных сил на территории городского округа Кинешма, включая размещение новых, реконструкцию, техническое перевооружение, расширение и перепрофилирование действующих производственно- хозяйственных объ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 оценку и отбор инвестиционных проектов с целью определения форм муниципальн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6"/>
          <p:cNvSpPr/>
          <p:nvPr/>
        </p:nvSpPr>
        <p:spPr>
          <a:xfrm>
            <a:off x="395280" y="5373720"/>
            <a:ext cx="842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лавы администрации городского округа Кинешма от 02 мая 2007 г. № 1152 «О создании Совета по размещению производительных сил и инвестиций на территории городского округа Кинеш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507960" y="963720"/>
            <a:ext cx="831204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униципальной поддержки инвестиционн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07960" y="1844640"/>
            <a:ext cx="829476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ьготная ставка земельного налога в размер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75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адастровой стоимости в отношении земельных участков под промышленными объектами инвесторов, подписавших инвестиционное соглашение и осуществляющих капитальные вложения в экономику городского округа Кинешма и в размер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ыше 50 млн. рублей до 100 мл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ей (включитель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507960" y="3625920"/>
            <a:ext cx="8280360" cy="109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вобождаются от уплаты земельного налога инвесторы, подписавшие инвестиционное соглашение и осуществляющие инвестирование в экономику городского округа Кинешм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ыше 100,0 млн. руб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2"/>
          <p:cNvSpPr/>
          <p:nvPr/>
        </p:nvSpPr>
        <p:spPr>
          <a:xfrm>
            <a:off x="507960" y="4869000"/>
            <a:ext cx="83120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инешемской городской Думы от 28 октября 2008 г. N 53/513 «Об установлении земельного налога на территории городского округа Кинеш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8:44:00Z</dcterms:created>
  <dc:creator>Сергей Владимирович Смирнов</dc:creator>
  <dc:description/>
  <dc:language>en-US</dc:language>
  <cp:lastModifiedBy>Admin</cp:lastModifiedBy>
  <dcterms:modified xsi:type="dcterms:W3CDTF">2012-12-18T04:55:20Z</dcterms:modified>
  <cp:revision>53</cp:revision>
  <dc:subject/>
  <dc:title>ИВЕСТИЦИОННЫЙ КЛИМАТ</dc:title>
</cp:coreProperties>
</file>